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33B3-4EA9-4BE3-A54A-769BBF274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rgosymedical.com/Diges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ebmd.com/digestive-disorders/picture-of-the-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erbsandmore.com/2012/02/digestive-problems-acid-reflux-is-vanquished-with-alkaline-wate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; http://www.healthnative.com/diet-for-peptic-ulce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tudyblue.com/notes/note/n/392--digestive-system-catabolize-macromolecs/deck/25961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utorvista.com/content/biology/biology-iv/animal-nutrition/holozoic-nutrition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epositphotos.com/10073266/stock-illustration-Digestive-Syste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nfovisual.info/03/057_e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zadehmd.com/parotid-salivary-gland-surgery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-forums.com/index.php?topic=576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iheartguts.com/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2733-9FBA-4663-8CC7-D70A7525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74BE-4DC3-4859-B950-C4762DF8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9209-094B-4669-BE05-F1F8917A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704B-DCFF-478A-97C3-6636F84C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E9C-6D4D-4F08-BA29-8B37218A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9946-A1EC-4BF6-A35F-11A4A546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733C-5EB2-4F18-A8D2-BCF31271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5132-F0AB-422F-BB9F-B18537D6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7A0E-90B1-4DC6-B501-BD106E41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8EAD-ABC0-4E99-8429-F809EA03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156A-9874-4265-AB80-6DE58800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302D-C3CF-4B63-AC32-C5183DF9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66C2-3104-4230-A9B8-543D5F329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nimations.3d4medical.com/Peristalsis-animation_AN2441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3, 9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mon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str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uses release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psin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d by acid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ps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digests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lus becom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267080" y="2081160"/>
            <a:ext cx="44197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 Refl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09920" y="1981080"/>
            <a:ext cx="412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mach Ulc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451240" y="1981080"/>
            <a:ext cx="424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-celled 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llyfish, flatworms ha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strovascular c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038480" y="2424240"/>
            <a:ext cx="480060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estive tract with two ope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two openings better than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2502000"/>
            <a:ext cx="3809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Diges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71880" y="1676520"/>
            <a:ext cx="4876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1625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on in the 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digestion with 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iva contains enzym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yl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digests st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us helps with swa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95680" y="2370240"/>
            <a:ext cx="42674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sophag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iglott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oses over the trachea during swa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l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food moves to stomach due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nimations.3d4medical.com/Peristalsis-animation_AN244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648320" y="2612880"/>
            <a:ext cx="380988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om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cters control movement of food in &amp; out of stom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tric juice contains enzymes, acid, and mu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95680" y="1616040"/>
            <a:ext cx="441972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14:23:53Z</dcterms:created>
  <dc:creator>rubina khan</dc:creator>
  <dc:description/>
  <dc:language>en-US</dc:language>
  <cp:lastModifiedBy>rubina khan</cp:lastModifiedBy>
  <dcterms:modified xsi:type="dcterms:W3CDTF">2013-05-02T14:59:41Z</dcterms:modified>
  <cp:revision>17</cp:revision>
  <dc:subject/>
  <dc:title>PowerPoint Presentation</dc:title>
</cp:coreProperties>
</file>